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DFA-2EDC-4388-8067-630A86B5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942-C08D-4FB6-B390-7849C310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2ED-FFD5-4ABD-85CB-CF609D21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E00-5845-439D-B5DA-79B8F304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E28-4006-4436-91BC-1007F0A1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2D4-EC9E-47BC-A6C1-19601A45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433-42A9-4832-AA6A-8F60BC98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912-56F2-4FF9-8D4E-374AD109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939-ACB0-496D-8AFF-4536CC14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842-6640-40CF-A26D-01EC14B8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D85-1FF3-481B-89CB-3AA78FA4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AD1-F94B-4BCD-96DB-D9776DEE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BC81-68F2-4FFB-88EC-4924F03CC4B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Mak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torial VVV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renzo Na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ome builds include an installation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installation rules using C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33160" y="332100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TARGETS myExe RUNTIME DESTINATION 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FILES files DESTINATION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55560" y="4830840"/>
            <a:ext cx="706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dir&gt; can b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lute pa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ve path, in this case it will be CMAKE_INSTALL_PREFIX\&lt;di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user can customize CMAKE_INSTALL_PREF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stall(TARGETS hel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UNTIME DESTINATION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${CMAKE_CURRENT_SOURCE_DIR}/../b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5"/>
          <p:cNvCxnSpPr/>
          <p:nvPr/>
        </p:nvCxnSpPr>
        <p:spPr>
          <a:xfrm flipH="1" flipV="1">
            <a:off x="5002920" y="5660280"/>
            <a:ext cx="864360" cy="23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 flipV="1">
            <a:off x="4858920" y="4660200"/>
            <a:ext cx="1226160" cy="12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10"/>
          <p:cNvSpPr/>
          <p:nvPr/>
        </p:nvSpPr>
        <p:spPr>
          <a:xfrm>
            <a:off x="5902560" y="602136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ation 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12"/>
          <p:cNvCxnSpPr/>
          <p:nvPr/>
        </p:nvCxnSpPr>
        <p:spPr>
          <a:xfrm flipH="1">
            <a:off x="6300000" y="443664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13"/>
          <p:cNvSpPr/>
          <p:nvPr/>
        </p:nvSpPr>
        <p:spPr>
          <a:xfrm>
            <a:off x="6459480" y="41497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 dependent (.a in Linu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ake has a few commands that can be used to find directories, executables and libraries insid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68360" y="31291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file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library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path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333360" y="4724280"/>
            <a:ext cx="8229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there is a better interfac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_package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ackage should provide yo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lib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header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er flags (if a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d_package(&lt;PACKAGE&gt;  [VERSION]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function attempts to locate the package called &lt;PACKAGE&gt; and will return a set of variab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INCLUDE_D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LIBR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AJ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IN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INCLUDE_D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9640" y="691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es find_package() wor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s for system directories (C:\Program files\&lt;package&gt; or /usr/&lt;package&gt; /usr/local/&lt;package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 for environment variables, very popular &lt;PACKAGE&gt;_D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Make does not enforce a particular set of variables each package set different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xamp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INCLUDE_D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LI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c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YAR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nclude_directories(${YARP_INCLUDE_DIR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target_link_libraries(hello ${YARP_LIBRARIE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source build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build parameters in a simple portab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619280" y="370368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able txt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Lists.t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>
            <a:stCxn id="45" idx="3"/>
          </p:cNvCxnSpPr>
          <p:nvPr/>
        </p:nvCxnSpPr>
        <p:spPr>
          <a:xfrm flipV="1">
            <a:off x="3492360" y="402516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TextBox 6"/>
          <p:cNvSpPr/>
          <p:nvPr/>
        </p:nvSpPr>
        <p:spPr>
          <a:xfrm>
            <a:off x="4356000" y="3832200"/>
            <a:ext cx="9367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12000" y="371304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Files (i.e. Makefile or .sl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/>
          <p:nvPr/>
        </p:nvCxnSpPr>
        <p:spPr>
          <a:xfrm flipV="1">
            <a:off x="5148000" y="4034880"/>
            <a:ext cx="719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9"/>
          <p:cNvSpPr/>
          <p:nvPr/>
        </p:nvSpPr>
        <p:spPr>
          <a:xfrm>
            <a:off x="715320" y="4869000"/>
            <a:ext cx="18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, header f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853080" y="498492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‘introspection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2"/>
          <p:cNvCxnSpPr/>
          <p:nvPr/>
        </p:nvCxnSpPr>
        <p:spPr>
          <a:xfrm flipV="1">
            <a:off x="1763640" y="4507920"/>
            <a:ext cx="288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3"/>
          <p:cNvCxnSpPr/>
          <p:nvPr/>
        </p:nvCxnSpPr>
        <p:spPr>
          <a:xfrm flipV="1">
            <a:off x="4500720" y="4347360"/>
            <a:ext cx="143280" cy="63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solved by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 and maintain project files for multiple platfor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tional component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on more than a single machine: different OS have different libraries, same OS ca be installed differentl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utomatically search for programs libraries header fi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directory tree different from source tr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ndle dependenc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versus Dynamic libra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nds (case in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(case 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9640" y="2997360"/>
            <a:ext cx="459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FOO 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FOO}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FOO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PATH_TO_MY_FILE C:\program files\myfi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PATH_TO_MY_FILE}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PATH_TO_MY_FILE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clude_directories(${CMAKE_CURRENT_SOURCE_DIR}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STATUS "--&gt; Hello from CMake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WIN3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Running on window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lse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Assuming running on Linux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NOT EXISTS "${CMAKE_CURRENT_SOURCE_DIR}/hello.cpp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FATAL_ERROR "File hello.cpp not found!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ersus build direct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mand 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d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 ../ or ccmake ..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g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-gu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source and build direc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t “c” until you get “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63400" y="580536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= source dir: in source bui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!= source dir: out of source bui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variables are determined only once and cached on disk; CMake will not touch them, only the us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.g. user options or result of system introspection, info that are expensive to determine (compiler to use, system libraries, etc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o a fresh restart, clean the c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the gu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ove CMakeCache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 on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executable(name file1.cpp file2.cpp header1.h header2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_link_libraries(name lib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library(name file1.cpp file2.cpp header1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_directories(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FOO -DB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if _ENABLE_DEBUG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f(“Value of variable v is %d”, v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_ENABLE_DEBUG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1:01:40Z</dcterms:created>
  <dc:creator>nat</dc:creator>
  <dc:description/>
  <dc:language>en-US</dc:language>
  <cp:lastModifiedBy>nat</cp:lastModifiedBy>
  <dcterms:modified xsi:type="dcterms:W3CDTF">2011-07-19T08:50:41Z</dcterms:modified>
  <cp:revision>23</cp:revision>
  <dc:subject/>
  <dc:title>CMake</dc:title>
</cp:coreProperties>
</file>